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29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28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FCB-6847-47B1-B6EB-144FC72D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917-0EFD-4230-A952-3DCEFF40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F38-D493-46CB-9DA1-D0188E58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8FF-BD31-4735-8818-490B8E65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53C03-1EC6-49F8-9C83-E4A8F137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59A29-34D8-4B08-81D2-24C0AF94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E40CA-DF27-4FC7-A72A-A3091EB4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951CC-20DE-4122-A882-2BDF8640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9E2EB-9785-4CC5-9B93-307A3FF8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C8CD6-E153-4CAA-ADA1-D352DA23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62F85-7D30-4EBD-A821-E400AF02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581-3564-4C3A-A77B-5E7A2958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47462-A7E6-4DC8-AF2D-D0C4815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93C08-D31E-49E8-9EED-28A868A9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C7DDB-1816-41EA-97FD-B2FD9F0C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57532-2613-4942-9C0B-E3F652F2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216A2-3748-4F4E-8819-C90FC529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0F4D6-631C-4811-BA59-112E9EE0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B611-9B94-4772-BE1C-A8929CF2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CD8DF-8731-4EAF-ACB2-46FCE8F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BFD3-A6F5-4319-A3BD-EB46EB10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7633-1C7B-4A1A-BD37-5E58C3B7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959-8960-444B-AEA1-8E5B943E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441E-7523-4674-A595-9E6767E9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6546-BA03-4592-ABD9-1668C232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4494-C986-461B-9341-2EA5549F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8779-D6EF-4A03-ABE6-D651462A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20B8-3B97-4125-91C9-D4D67F24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EE09-529A-4C05-AAEF-8CB8FB60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8583-2DFC-4D66-96C2-8B33626D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53C21-B571-42CD-AE87-97E51D79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77513-95EA-47AC-8B1E-195C6C53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25EEF-3EFD-473A-9A37-96D4D7A9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E29-A8DA-4734-9234-1FE6ECFA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04F06F-C77A-4BBD-924F-233C910E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780E1-02C8-409C-87C3-8A0ED3E9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8FA615-9566-462A-BA5B-72527810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57C362-E6D2-4B32-AF0D-D5DF8AA6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28C040-292D-4BC9-B6EE-CB061F91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EE6B7A-7346-4C98-8F16-AD4C8D33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8DF5E-3673-4A21-9EF4-5A9A8ACC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BB12B-EA6E-485D-9489-33E1FE87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A5125-430C-470F-A021-E9C48BE7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061-3317-47D6-AAC2-1206F5BC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F68-74BA-4822-BC4E-017445DC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5B9-4B9D-4F3F-9CD2-5F987EEF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1F8-4964-4423-8BCF-28B04675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A25-FD13-48E4-98C9-C79C9283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D12B-9950-4B3E-B74A-219BCEFC4E64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0577-BD24-4336-90E7-2DE04D8CEBD4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B511-DEA7-46A4-8F54-B148AAB822E7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565-10BD-4613-98A4-818560858471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9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0_663ca_3d149383_XL"/>
          <p:cNvPicPr/>
          <p:nvPr/>
        </p:nvPicPr>
        <p:blipFill>
          <a:blip r:embed="rId1"/>
          <a:stretch/>
        </p:blipFill>
        <p:spPr>
          <a:xfrm>
            <a:off x="1143000" y="171360"/>
            <a:ext cx="6858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3733560"/>
            <a:ext cx="83059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виг воронежцев и Воронежа в Великой Отечественной войне позднее был отмечен высокими правительственными наградами: в 1975 году город Воронеж был награжден орденом Отечественной войны I степени, в 1986 году – Орденом Ленина, в 2008 году Воронежу было присвоено почетное звание РФ «Город воинской слав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3257_1_big"/>
          <p:cNvPicPr/>
          <p:nvPr/>
        </p:nvPicPr>
        <p:blipFill>
          <a:blip r:embed="rId1"/>
          <a:stretch/>
        </p:blipFill>
        <p:spPr>
          <a:xfrm>
            <a:off x="533520" y="152280"/>
            <a:ext cx="4876560" cy="329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image"/>
          <p:cNvPicPr/>
          <p:nvPr/>
        </p:nvPicPr>
        <p:blipFill>
          <a:blip r:embed="rId2"/>
          <a:stretch/>
        </p:blipFill>
        <p:spPr>
          <a:xfrm>
            <a:off x="5105520" y="5437080"/>
            <a:ext cx="2819160" cy="1420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86182098_9_may_70"/>
          <p:cNvPicPr/>
          <p:nvPr/>
        </p:nvPicPr>
        <p:blipFill>
          <a:blip r:embed="rId3"/>
          <a:stretch/>
        </p:blipFill>
        <p:spPr>
          <a:xfrm>
            <a:off x="5761080" y="228600"/>
            <a:ext cx="297000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22 июня 1941 года мирная жизнь нашего народа была прервана. Фашистская Германия, нарушив акт о ненападении, вторглась на территорию Советского Союза. И, чтобы не оказаться в фашистском рабстве, ради спасения Родины народ вступил в схватку с коварным, жестоким и беспощадным враг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238320" cy="14875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572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х, война, что ж ты сделала, подл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i"/>
          <p:cNvPicPr/>
          <p:nvPr/>
        </p:nvPicPr>
        <p:blipFill>
          <a:blip r:embed="rId2"/>
          <a:stretch/>
        </p:blipFill>
        <p:spPr>
          <a:xfrm>
            <a:off x="2819520" y="1085760"/>
            <a:ext cx="3429000" cy="2874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image"/>
          <p:cNvPicPr/>
          <p:nvPr/>
        </p:nvPicPr>
        <p:blipFill>
          <a:blip r:embed="rId3"/>
          <a:stretch/>
        </p:blipFill>
        <p:spPr>
          <a:xfrm>
            <a:off x="3429000" y="6095880"/>
            <a:ext cx="1905120" cy="95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/>
          <p:cNvPicPr/>
          <p:nvPr/>
        </p:nvPicPr>
        <p:blipFill>
          <a:blip r:embed="rId10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83" name="Ах, война.mp3" descr=""/>
          <p:cNvPicPr/>
          <p:nvPr/>
        </p:nvPicPr>
        <p:blipFill>
          <a:blip r:embed="rId11"/>
          <a:stretch/>
        </p:blipFill>
        <p:spPr>
          <a:xfrm>
            <a:off x="7848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050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320004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еликий подвиг совершили воронежцы в годы Великой Отечественной войны. Сотни тысяч наших земляков отважно сражались за свободу родного города и родной страны. Они защищали Москву и Ленинград, участвовали в Сталинградской и Курской битвах, освобождали Варшаву и Прагу, штурмовали Берлин. Около 300 воронежцев за проявленный героизм и мужество присвоено звание Героя Советского Союз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месте со взрослыми в военных действиях принимали участие и совсем юные жители Воронежской области. Многие школьники тайком уходили из дома на фронт, становились связными и разведчиками. Неоценим подвиг юных героев: Кости Феоктистова, Кости Стрелюка, Лили Федодеевой и други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4" descr="i"/>
          <p:cNvPicPr/>
          <p:nvPr/>
        </p:nvPicPr>
        <p:blipFill>
          <a:blip r:embed="rId1"/>
          <a:stretch/>
        </p:blipFill>
        <p:spPr>
          <a:xfrm>
            <a:off x="2514600" y="157320"/>
            <a:ext cx="4495680" cy="2946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image"/>
          <p:cNvPicPr/>
          <p:nvPr/>
        </p:nvPicPr>
        <p:blipFill>
          <a:blip r:embed="rId2"/>
          <a:stretch/>
        </p:blipFill>
        <p:spPr>
          <a:xfrm>
            <a:off x="6477120" y="5181480"/>
            <a:ext cx="2666880" cy="134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месте со всем народом на борьбу с гитлеровцами поднялись юные жители Воронежской области. Они помогали взрослым не только в тылу, но и в прифронтовых районах и на фронт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ни были связными партизанских отрядов, разведчиками регулярных частей Советской Армии, красными орлятами воронежских сел и город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аленькие герои переходили линию фронта, подобно лискинской школьнице Лиле Федодеевой, которая не раз переправлялась на захваченный фашистами берег Дона, собирала сведения и сообщала о них советскому командованию. Многие пионеры уходили тайком из дома и становились сыновьями полк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4" descr="1003635-i_004"/>
          <p:cNvPicPr/>
          <p:nvPr/>
        </p:nvPicPr>
        <p:blipFill>
          <a:blip r:embed="rId1"/>
          <a:stretch/>
        </p:blipFill>
        <p:spPr>
          <a:xfrm>
            <a:off x="685800" y="3886200"/>
            <a:ext cx="2895480" cy="182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0_4482a_1c165a83_XL"/>
          <p:cNvPicPr/>
          <p:nvPr/>
        </p:nvPicPr>
        <p:blipFill>
          <a:blip r:embed="rId2"/>
          <a:stretch/>
        </p:blipFill>
        <p:spPr>
          <a:xfrm>
            <a:off x="6799320" y="3886200"/>
            <a:ext cx="1508040" cy="2209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4e5ca911a99ct"/>
          <p:cNvPicPr/>
          <p:nvPr/>
        </p:nvPicPr>
        <p:blipFill>
          <a:blip r:embed="rId3"/>
          <a:stretch/>
        </p:blipFill>
        <p:spPr>
          <a:xfrm>
            <a:off x="4267080" y="3657600"/>
            <a:ext cx="1774800" cy="264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image"/>
          <p:cNvPicPr/>
          <p:nvPr/>
        </p:nvPicPr>
        <p:blipFill>
          <a:blip r:embed="rId4"/>
          <a:stretch/>
        </p:blipFill>
        <p:spPr>
          <a:xfrm>
            <a:off x="1066680" y="5630760"/>
            <a:ext cx="2438640" cy="1227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3623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том 1942 г. юный разведчик Костя Феоктистов не раз переправлялся через р. Воронеж с левого берега на правый, чтобы раздобыть ценные сведения для советского командования. Однажды он был схвачен фашистами, ранен, едва остался жив, но и на этот раз выполнил боевое задание. Тогда воронежскому школьнику Косте Феоктистову было 16 лет. Сейчас это известный всему миру летчик-космонавт, Герой Советского Сою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Picture 4" descr="i"/>
          <p:cNvPicPr/>
          <p:nvPr/>
        </p:nvPicPr>
        <p:blipFill>
          <a:blip r:embed="rId1"/>
          <a:stretch/>
        </p:blipFill>
        <p:spPr>
          <a:xfrm>
            <a:off x="380880" y="304920"/>
            <a:ext cx="2194200" cy="3047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2684520" y="914400"/>
            <a:ext cx="37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октистов Константин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image"/>
          <p:cNvPicPr/>
          <p:nvPr/>
        </p:nvPicPr>
        <p:blipFill>
          <a:blip r:embed="rId2"/>
          <a:stretch/>
        </p:blipFill>
        <p:spPr>
          <a:xfrm>
            <a:off x="304920" y="5105520"/>
            <a:ext cx="2895480" cy="145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52480" y="297180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стя Стрелюк был учеником воронежской школы № 1 (ныне № 11). На фронт ушел добровольцем. Попал в прославленный партизанский отряд С. А. Ковпака, где стал разведчиком. Немало партизанских походов проделал Костя Стрелюк. Стрелюк будучи в разведке попал на засаду националистов, быстро разгадав замысел противника бросился вперёд увлекая за собой бойцов. Засада противника была уничтожена. В этом бою тов. Стрелюк уничтожил 5 бендеровцев и был ране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гиб юный разведчик смертью героя на Украин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релюк награждён орденом Красного Знамени. Осенью 1943 г. он награждается орденом Отечественной войны I степен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5" descr="f"/>
          <p:cNvPicPr/>
          <p:nvPr/>
        </p:nvPicPr>
        <p:blipFill>
          <a:blip r:embed="rId1"/>
          <a:stretch/>
        </p:blipFill>
        <p:spPr>
          <a:xfrm>
            <a:off x="457200" y="17136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548640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тя Стрелю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image"/>
          <p:cNvPicPr/>
          <p:nvPr/>
        </p:nvPicPr>
        <p:blipFill>
          <a:blip r:embed="rId2"/>
          <a:stretch/>
        </p:blipFill>
        <p:spPr>
          <a:xfrm>
            <a:off x="380880" y="5562720"/>
            <a:ext cx="1752840" cy="88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-360" y="3276360"/>
            <a:ext cx="3809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ключительный героизм проявил в оборонительных боях на Курской дуге воронежец Дмитрий Чеботарев. Наводчик противотанкового орудия, он уничтожил 4 вражеских танка и самоходку. Даже будучи раненым, Дмитрий не покинул поле боя и поджег еще два танка. Погиб Д. Чеботарев 6 июля 1943 г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086240" y="3276720"/>
            <a:ext cx="2057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братской могиле в селе Ольховатка Поныровского района Курской области РФ., где похоронен Д. Ф. Чеботарёв, создан Мемориал героям Северного фаса Курской дуг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230px-Чеботарев_Дмитрий_Федорович_2"/>
          <p:cNvPicPr/>
          <p:nvPr/>
        </p:nvPicPr>
        <p:blipFill>
          <a:blip r:embed="rId1"/>
          <a:stretch/>
        </p:blipFill>
        <p:spPr>
          <a:xfrm>
            <a:off x="380880" y="228600"/>
            <a:ext cx="1986120" cy="30481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3413160" y="6858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Чебот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453px-Памятный_знак_на_месте_последнего_боя_расчета_Чеботарева_Д"/>
          <p:cNvPicPr/>
          <p:nvPr/>
        </p:nvPicPr>
        <p:blipFill>
          <a:blip r:embed="rId2"/>
          <a:stretch/>
        </p:blipFill>
        <p:spPr>
          <a:xfrm>
            <a:off x="4267080" y="2514600"/>
            <a:ext cx="3167280" cy="4191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image"/>
          <p:cNvPicPr/>
          <p:nvPr/>
        </p:nvPicPr>
        <p:blipFill>
          <a:blip r:embed="rId3"/>
          <a:stretch/>
        </p:blipFill>
        <p:spPr>
          <a:xfrm>
            <a:off x="3124080" y="5591160"/>
            <a:ext cx="2514600" cy="12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3520" y="3733560"/>
            <a:ext cx="8610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енщины, дети и старики заменили ушедших на фронт мужчин. Они работали на заводах и занимались сельским хозяйством, водили и ремонтировали тракторы и комбайны, вручную сажали поля и убирали урожай, лечили раненых и ухаживали за бойцами в госпиталях. Кроме того, во многих районах области пионерами были созданы мастерские по изготовлению различных вещей для фронта. Ребята отправляли нашим солдатам носки, варежки, кисеты, носовые платки, а подарки детей вдохновляли бойцов на новые подвиг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i"/>
          <p:cNvPicPr/>
          <p:nvPr/>
        </p:nvPicPr>
        <p:blipFill>
          <a:blip r:embed="rId1"/>
          <a:stretch/>
        </p:blipFill>
        <p:spPr>
          <a:xfrm>
            <a:off x="533520" y="228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img16"/>
          <p:cNvPicPr/>
          <p:nvPr/>
        </p:nvPicPr>
        <p:blipFill>
          <a:blip r:embed="rId2"/>
          <a:stretch/>
        </p:blipFill>
        <p:spPr>
          <a:xfrm>
            <a:off x="4724280" y="2286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image"/>
          <p:cNvPicPr/>
          <p:nvPr/>
        </p:nvPicPr>
        <p:blipFill>
          <a:blip r:embed="rId3"/>
          <a:stretch/>
        </p:blipFill>
        <p:spPr>
          <a:xfrm>
            <a:off x="3886200" y="5562720"/>
            <a:ext cx="2133720" cy="107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52880" y="3580920"/>
            <a:ext cx="4191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ы не слышали взрывов бомб, сигналов воздушной трево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когда мы спрашиваем взрослых о войне, мы узнаем, что почти в каждой семье кто – то погиб, пропал без вести, был ране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13" descr="scan0018"/>
          <p:cNvPicPr/>
          <p:nvPr/>
        </p:nvPicPr>
        <p:blipFill>
          <a:blip r:embed="rId1"/>
          <a:stretch/>
        </p:blipFill>
        <p:spPr>
          <a:xfrm>
            <a:off x="304920" y="152280"/>
            <a:ext cx="2712960" cy="3733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scan0013"/>
          <p:cNvPicPr/>
          <p:nvPr/>
        </p:nvPicPr>
        <p:blipFill>
          <a:blip r:embed="rId2"/>
          <a:stretch/>
        </p:blipFill>
        <p:spPr>
          <a:xfrm>
            <a:off x="609480" y="3827520"/>
            <a:ext cx="1667160" cy="257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ав"/>
          <p:cNvPicPr/>
          <p:nvPr/>
        </p:nvPicPr>
        <p:blipFill>
          <a:blip r:embed="rId3"/>
          <a:stretch/>
        </p:blipFill>
        <p:spPr>
          <a:xfrm>
            <a:off x="3200400" y="152280"/>
            <a:ext cx="152100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1 (2)"/>
          <p:cNvPicPr/>
          <p:nvPr/>
        </p:nvPicPr>
        <p:blipFill>
          <a:blip r:embed="rId4"/>
          <a:stretch/>
        </p:blipFill>
        <p:spPr>
          <a:xfrm>
            <a:off x="5410080" y="152280"/>
            <a:ext cx="3733920" cy="20005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8"/>
          <p:cNvSpPr/>
          <p:nvPr/>
        </p:nvSpPr>
        <p:spPr>
          <a:xfrm>
            <a:off x="2438280" y="5368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кол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вел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3124080" y="254916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кол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image"/>
          <p:cNvPicPr/>
          <p:nvPr/>
        </p:nvPicPr>
        <p:blipFill>
          <a:blip r:embed="rId5"/>
          <a:stretch/>
        </p:blipFill>
        <p:spPr>
          <a:xfrm>
            <a:off x="3581280" y="5937120"/>
            <a:ext cx="182880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рединина</cp:lastModifiedBy>
  <dcterms:modified xsi:type="dcterms:W3CDTF">2013-05-06T14:56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